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2A6-9E59-4561-841C-6ACC7E5B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2F5-7468-420F-8EF3-4FE58A2D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A1F-EEFE-4145-A800-CC2F8AD7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A3D-7837-4415-8157-ACA6E64F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685-B286-4541-A082-522871B5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D67C-89BB-4C54-8B66-4AA7BE22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E4E-4B9B-4695-8D32-09361059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36B-72F1-4AB1-99E6-44E50A6C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8D0-5255-45A8-965F-6847F2B2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8AB-4314-423F-B4E0-EA1C191C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EE7-EABA-4CD6-A877-3ACE6E03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F8E-C30E-4C34-9553-3CD24AB8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7063-EC6D-4582-88D3-466C4F9C3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how you do the Warm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write your name, date, period in the Upper Right hand corner of your pa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xt, write a heading on the top line of your page, in the middle with Period 1 Warm Up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, look at the image, and the questions and then answer each question in 1-2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plet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will be warm-ups ALMOST every clas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iod 1, WU #1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constructed View of Cahok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029200" cy="3402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04920" y="5029200"/>
            <a:ext cx="86104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.  What does the presence of farms suggest about the inhabitants lifestyl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.  How does the presence of farms change the general held stereotype of Native American life prior to the arrival of Europea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.  What does the location of the temple mound suggest about the role of religion in Cahokian lif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5486400" y="1676520"/>
            <a:ext cx="33526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constructed view of Cahokia, the largest city in North America before the European arrival, painted by William R. Iseming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Cahokia Mounds Historical S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8:15:38Z</dcterms:created>
  <dc:creator>greenej</dc:creator>
  <dc:description/>
  <dc:language>en-US</dc:language>
  <cp:lastModifiedBy>Grace</cp:lastModifiedBy>
  <dcterms:modified xsi:type="dcterms:W3CDTF">2015-08-31T21:43:57Z</dcterms:modified>
  <cp:revision>2</cp:revision>
  <dc:subject/>
  <dc:title>Here is how you do the Warm Up</dc:title>
</cp:coreProperties>
</file>